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74F2-86B2-4CF1-A3E8-4E479B553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629F-371F-481A-A9BF-6BF34E84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AB9C-FD83-428D-9F4A-C06C8DBF8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1C98-092A-49F3-A8E1-ABA77ACB1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FB1C-374B-4DA5-9D65-5C93A02D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46B0-F2DD-45AD-B7A6-692B741B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CAAD-0DA8-41E4-B5D4-9DD918B0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E2FB-378D-4B03-B16E-D739C076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C7F2-3144-4A98-BE72-A8485FBE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0B22-9DC4-4F93-B5A4-60AA9966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50A7-59CB-4219-9052-1EE91B42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1426-39AC-4A63-BF99-DB0CE2B9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5618-C41D-4864-94FF-A59B838DE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3623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TO MATCH OR NOT TO MATCH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15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3048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90720" y="4038480"/>
            <a:ext cx="73152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619760" cy="2362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09480" y="3124080"/>
            <a:ext cx="78487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4451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638680" y="5105520"/>
            <a:ext cx="289584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THE ALTERNATIVE TO MATCH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6781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2388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4674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6197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2819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7620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391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391160" cy="2361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62120" y="3505320"/>
            <a:ext cx="73152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467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391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2388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6960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239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4674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238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238880" cy="3276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295280" y="4191120"/>
            <a:ext cx="68580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620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1600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38080" y="2819520"/>
            <a:ext cx="7391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848720" cy="1447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5800" y="2508120"/>
            <a:ext cx="769608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3152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543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315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3911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086600" cy="3124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66880" y="3962520"/>
            <a:ext cx="3962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391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2-07-02T13:36:08Z</dcterms:modified>
  <cp:revision>106</cp:revision>
  <dc:subject/>
  <dc:title>The Art in the State of the Art</dc:title>
</cp:coreProperties>
</file>